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BBE7-E3DB-43FF-BD22-C3FB0C373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0F33-FAC4-453B-90F3-35059820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FF2A-D035-4F42-82BE-80EF80E18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4925-73E0-4270-BB36-9DDD89F89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9819-4420-4E14-9021-57D23CB8C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DB59-AC9B-43AE-9DA6-60DA21D0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3C96-7D57-40DF-83F2-43712A78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A6A05-6B5E-40D2-9372-D115ABC5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B4A8-3BF9-4D93-9603-54A13242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CBDD2-4EED-46D9-8CA4-D6744C2A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8227-EDF8-4EEB-B83F-03E6C3BC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26AE-A68F-4B49-8409-92112675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59FF-70C1-46DE-A7C3-B0ACEBFF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DB1B-B587-47E9-A5DB-07D9B0B3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C76B0-1B35-4D48-8576-80640A1B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219F-B7B9-4FA7-8561-4F240B5A4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5BFC-E474-4DF9-95D1-0001EED5C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2FD9-7F94-4DEF-AA99-CD6AA0EF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87DE-A26F-4450-94E3-A10F23C7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D2EE-E0A9-4B31-B944-47BE97FA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0EAE-3EF0-4EC5-B9C9-CC335180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716D-6D9C-438C-97B3-011C7A7B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9408-7029-42BA-912A-2A990BFA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F3CB-0742-4788-9013-B838A418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D0B3-9A9C-4A87-8EDA-8BD035DCDF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42F8-C895-4643-9380-B249345FDD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Временные ограждения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30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остроения на чертеже строительного генерального плана графических изображений временных ограждений выбранного типа и заданных параметров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вставки в чертеж схемы устройства выбранного типа ограждения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расчета потребности в материалах для данного ограждения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вставки в чертеж таблицы расхода материалов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олучения текстового выходного документа с таблицей расхода материалов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43040" y="5788080"/>
            <a:ext cx="758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Набор ограждений формируется в таблице и сохраняется в чертеже. Участки ограждений добавляются двумя способами: построением на чертеже или указанием существующих полилиний. Для каждого ограждения можно вставить в чертеж схему устройства и таблицу расхода материалов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2427120" y="938160"/>
            <a:ext cx="4897440" cy="474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Добавление ворот и калиток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43040" y="5788080"/>
            <a:ext cx="758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Ворота и калитки формируются в отдельный набор, который сохраняется в чертеже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2181240" y="795240"/>
            <a:ext cx="505620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ыбор типа ограждени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43040" y="486108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едусмотрена возможность изменения типа ограждений и ворот (калиток), их наименования в наборе и на чертеже и других необходимых параметров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538280" y="1042920"/>
            <a:ext cx="5934240" cy="22287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1530360" y="3675240"/>
            <a:ext cx="5934240" cy="10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563840" y="21600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ображение временного ограждения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708200" y="1427040"/>
            <a:ext cx="6053040" cy="36626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743040" y="525456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Изображение ограждений на чертеже может включать в себя участки ограждений в виде условных линий, ворота (калитки) в виде условных обозначений, а также выноски с надписям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563840" y="21600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ображение схемы устройства ограждения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1639800" y="1349280"/>
            <a:ext cx="6118200" cy="29656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43040" y="447984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каждого типа ограждения предусмотрена возможность построения на чертеже схемы устройства ограждени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таблицы расход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материал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8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1041480" y="1592280"/>
            <a:ext cx="7337520" cy="22496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743040" y="402264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Таблица расхода материалов может быть вставлена в чертеж или сохранена в документе формата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icrosoft Wor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7-03-06T08:12:26Z</dcterms:modified>
  <cp:revision>255</cp:revision>
  <dc:subject/>
  <dc:title>Слайд 1</dc:title>
</cp:coreProperties>
</file>